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8959-078B-49C5-B912-48B8EEA3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EA2C-995A-47D4-BFFA-352450F8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C9A6-ADFA-4A00-837F-CC266E65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0FE1-B76E-4BA2-BEB3-3D35BB71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CF01-4B85-4811-B31A-B28438DA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F5CA-8D9E-4C90-A938-112C9349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11ED-C565-4A23-B188-BB5E9CC1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5542-2263-407D-8EF7-4947BCF7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6F16-4B07-4F97-84BC-E58C8969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436D-12BA-4BB1-9F17-229E290E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E86F-E5B6-434D-8EB1-94609CEC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A7B6-314C-4879-8E8F-2D46506E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C6F5-3F3C-4B9A-A5FD-3E809DD3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AD50-F747-41C9-B7F3-0765617C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729D-9EFB-4033-8FC8-F9B2BF9F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976E-37AC-4096-B313-A6539057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01D3-54A8-4CFD-826E-AA4157CC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7A14-9415-43B3-99D9-ECF8F506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509D-5A85-45AF-8D52-7EB86C994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54B92-187D-4B0D-813D-640E0F8E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BF1D-E357-4C59-98B7-E9E118B8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58A44-FAD8-456E-A546-51866D4D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40104-E7C9-40DE-919A-FD3D3D01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0D8DC-5713-49D0-B794-93B6267F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D3890-CBEB-413A-8FD6-FDBE948F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BD4C4-FA6B-47A7-ABA4-2B9B3FA9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5355A-A13B-4F61-9D6C-289F639C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87F01-22B0-49E3-9E35-2169DF70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F4532-9FBB-44CC-B648-3933B531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7C4D7-3486-4DFA-9346-CC39911E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BB921-CD44-4353-8B39-3755858B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B13-6E30-4A38-A96D-3FF26186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D3621-38C3-4FFB-B3A2-4A8F9738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0AEFD-E180-4CCC-87B0-56EEB357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12367-403C-42CE-95AE-455ED410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3FBAF-7CF8-4727-891F-3998244D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8DC81-56FE-4D19-995E-CFFB7909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1E2DF-F25E-4AD9-969D-3E9D54DD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659CD-C23E-4C7C-9678-DC7C3C2A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3432C-38E8-4345-A07B-BFA7A459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FE147-81F1-462C-96D6-83E59EA7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29D67-AE19-4C7D-8C01-F6689220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7C4D-8702-4F52-92D0-71570C27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CC54C-0786-4249-9B46-FF526CD5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FA697-DE82-460F-BA50-646A9F20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035A5-5948-48D7-9116-69F551AC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A4F3-3BCF-445F-B573-C91D581B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DE2B-606B-430E-9BB6-72FC9304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FE8037BD-59BB-45F4-96C9-646E05F076A4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FA4B1582-BC63-4EF7-87BE-E0FC3AEBD47D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58605433-0E59-455B-88BB-D54BA482337B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8697C0ED-42C8-4820-8171-CED6C306FEAD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1988640"/>
            <a:ext cx="10157040" cy="7923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73000"/>
          </a:bodyPr>
          <a:p>
            <a:pPr marL="221040" indent="-22104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O czym należy pamiętać wykonując resuscytację u kobiety ciężarnej?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98440" y="1844280"/>
            <a:ext cx="10220400" cy="3102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Należy pamiętać, by jej prawe biodro było uniesione wyżej aniżeli lewe.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52:2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